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3.xml.rels" ContentType="application/vnd.openxmlformats-package.relationships+xml"/>
  <Override PartName="/ppt/notesSlides/notesSlide6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</p:sldIdLst>
  <p:sldSz cx="9144000" cy="6858000"/>
  <p:notesSz cx="67611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0"/>
            <a:ext cx="67608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304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dt" idx="3"/>
          </p:nvPr>
        </p:nvSpPr>
        <p:spPr>
          <a:xfrm>
            <a:off x="3828600" y="0"/>
            <a:ext cx="29307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楷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楷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Img"/>
          </p:nvPr>
        </p:nvSpPr>
        <p:spPr>
          <a:xfrm>
            <a:off x="896400" y="746280"/>
            <a:ext cx="4967640" cy="372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黑体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ftr" idx="4"/>
          </p:nvPr>
        </p:nvSpPr>
        <p:spPr>
          <a:xfrm>
            <a:off x="0" y="9443520"/>
            <a:ext cx="29304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 type="sldNum" idx="5"/>
          </p:nvPr>
        </p:nvSpPr>
        <p:spPr>
          <a:xfrm>
            <a:off x="3828600" y="9443520"/>
            <a:ext cx="293076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楷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08634-E424-43DF-94E9-5660F7DDADB8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楷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895320" y="744480"/>
            <a:ext cx="4967280" cy="372744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74640" y="4721400"/>
            <a:ext cx="5408640" cy="447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0" lang="zh-CN" sz="800" spc="-1" strike="noStrike">
                <a:solidFill>
                  <a:srgbClr val="000000"/>
                </a:solidFill>
                <a:latin typeface="宋体"/>
                <a:ea typeface="宋体"/>
              </a:rPr>
              <a:t>总热能摄入量应降低，以维持较理想的体重为宜。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老年人热能供给量是否合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通过观察体重变化来衡量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老年人摄入蛋白质利用率低，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要求</a:t>
            </a:r>
            <a:r>
              <a:rPr b="0" lang="zh-CN" sz="1200" spc="-1" strike="noStrike">
                <a:solidFill>
                  <a:srgbClr val="bbe0e3"/>
                </a:solidFill>
                <a:latin typeface="Calibri"/>
                <a:ea typeface="宋体"/>
              </a:rPr>
              <a:t>蛋白质供给中有一半来自优质蛋白，即来自动物性食品和豆类食品蛋白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脂肪摄入量不宜过多，食用油的选择应尽量</a:t>
            </a:r>
            <a:r>
              <a:rPr b="0" lang="zh-CN" sz="1200" spc="-1" strike="noStrike">
                <a:solidFill>
                  <a:srgbClr val="bbe0e3"/>
                </a:solidFill>
                <a:latin typeface="Calibri"/>
                <a:ea typeface="宋体"/>
              </a:rPr>
              <a:t>少用动物油脂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，而食用豆油、葵花子油、花生油等</a:t>
            </a:r>
            <a:r>
              <a:rPr b="0" lang="zh-CN" sz="1200" spc="-1" strike="noStrike">
                <a:solidFill>
                  <a:srgbClr val="bbe0e3"/>
                </a:solidFill>
                <a:latin typeface="Calibri"/>
                <a:ea typeface="宋体"/>
              </a:rPr>
              <a:t>植物油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。需控制猪油、牛羊油及奶油等动物脂肪的摄入。老年人还应</a:t>
            </a:r>
            <a:r>
              <a:rPr b="0" lang="zh-CN" sz="1200" spc="-1" strike="noStrike">
                <a:solidFill>
                  <a:srgbClr val="bbe0e3"/>
                </a:solidFill>
                <a:latin typeface="Calibri"/>
                <a:ea typeface="宋体"/>
              </a:rPr>
              <a:t>少食用含胆固醇过多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的食品，如动物脑、肾、肝、鱼子等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碳水化合物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老年人胰岛素对血糖的调节作用减弱，糖耐量低，故有血糖升高趋势，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宜食含蔗糖高的食品，过多的糖在体内可转变为脂肪引起血脂升高。宜多吃水果、蜂蜜等含果糖的食品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5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中老年人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钙的吸收减少，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易发生钙负平衡，致骨质疏松症和骨折多发，中老年人每日钙的供给量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800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毫克。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牛奶、大豆及豆制品、芝麻酱、木耳、海带等，并且经常晒太阳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中老年人易出现缺铁性贫血，需要补充铁。。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炒菜时宜选用</a:t>
            </a:r>
            <a:r>
              <a:rPr b="0" lang="zh-CN" sz="1200" spc="-1" strike="noStrike">
                <a:solidFill>
                  <a:srgbClr val="bbe0e3"/>
                </a:solidFill>
                <a:latin typeface="Calibri"/>
                <a:ea typeface="宋体"/>
              </a:rPr>
              <a:t>铁锅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，世界卫生组织出于预防缺铁性贫血的考虑，向世界建议推广应用中国铁锅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6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由于老年人消化吸收功能减退，维生素的供给量比年轻人稍需增加，主要应补充多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B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族维生素、维生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C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和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E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7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食物纤维是非营养物质，对老年人很重要。食物纤维可促进肠蠕动，加快粪便排泄、降低血清低密度脂蛋白，减少有致癌作用的胆酸代谢物生成。饮食中适量的食物纤维对肥胖病、糖尿病、动脉粥样硬化均有良好效果。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每日膳食中应安排一定数量的粗粮、蔬菜及水果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5FF703-7F2E-4C3C-8FAC-49767C27152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C35B23-4BB9-46E2-BE61-D86DCAD96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683137-270E-4A77-8C69-2E5F7E132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D94A98-8494-4B49-9FD5-F28DD271C6E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06B5A5-0E12-48AD-929A-EF8E0E11B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124F5D-0049-44A1-A152-DB5C6F525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2542F4-50CA-4F11-86B1-BCDF1E96D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125E86-DB88-46AF-A3B3-77F42EE8C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4470B9-EDE9-4BBC-819D-8CBD01D27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BFDB61-8E0A-43B2-B827-700741BD4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6636C6-4C34-451B-A7B6-0336580A4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6439E4-EB06-45FC-928B-BD586BF9A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Click to edit the outline text format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Second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Third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Four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Fif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Six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Seven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21D16-BB5E-406D-B11C-7823C6C7385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Click to edit the outline text format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Second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Third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Four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Fif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Six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Seven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105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06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107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108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9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10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11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112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113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4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15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116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7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118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119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0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1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2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3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124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Click to edit the outline text format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Second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Third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Four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Fif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Six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Seven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</a:rPr>
              <a:t>第六章 社区重点人群的健康管理</a:t>
            </a:r>
            <a:endParaRPr b="1" lang="en-US" sz="48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四）儿童、青少年生长发育的检测与评价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儿童、青少年体格生长检测与评价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检测内容：体重、身高、坐高、头围、上臂围，胸围、囟门和牙齿等形态指标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检测要求：测量必须准确，要统一测量工具与方法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评价：均值差离法；中位数、百分位法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一、概  述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98280" y="1371240"/>
            <a:ext cx="8964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四）儿童、青少年生长发育的检测与评价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儿童、青少年神经心理发育检测与评价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检测内容：儿童、青少年的感觉、记忆、运动、语言、认知、个性等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心理检测方法：丹佛发育筛查法、绘人测试法等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评价：需要由专业人员进行评价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一、概  述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二、新生儿健康管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护理评估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新生儿特点：各个器官全而未壮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机体柔嫩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小儿各器官生理功能尚不成熟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有特殊的生理特点：生理性体重下降、新生儿黄疸、上皮珠（马牙子）、阴道出血（假月经）等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平均每天睡眠时间长达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0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小时，脐带脱落，胎便排出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适应能力较差，临床表现不典型，患病率、死亡率高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护理问题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脐带渗出：与护理不当或感染有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尿布皮炎：与皮肤长期受湿润物质刺激或相互摩擦等有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生理性黄疸：与胆红素增多有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护理措施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访视时间：一般需要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en-US" sz="2800" spc="-1" strike="noStrike">
                <a:solidFill>
                  <a:srgbClr val="046ca6"/>
                </a:solidFill>
                <a:latin typeface="Microsoft JhengHei"/>
                <a:ea typeface="Microsoft JhengHei"/>
              </a:rPr>
              <a:t>~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次，即新生儿回家后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en-US" sz="2800" spc="-1" strike="noStrike">
                <a:solidFill>
                  <a:srgbClr val="046ca6"/>
                </a:solidFill>
                <a:latin typeface="Microsoft JhengHei"/>
                <a:ea typeface="Microsoft JhengHei"/>
              </a:rPr>
              <a:t>~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天内的初访，生后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</a:t>
            </a:r>
            <a:r>
              <a:rPr b="1" lang="en-US" sz="2800" spc="-1" strike="noStrike">
                <a:solidFill>
                  <a:srgbClr val="046ca6"/>
                </a:solidFill>
                <a:latin typeface="Microsoft JhengHei"/>
                <a:ea typeface="Microsoft JhengHei"/>
              </a:rPr>
              <a:t>~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7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天周访视，生后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0</a:t>
            </a:r>
            <a:r>
              <a:rPr b="1" lang="en-US" sz="2800" spc="-1" strike="noStrike">
                <a:solidFill>
                  <a:srgbClr val="046ca6"/>
                </a:solidFill>
                <a:latin typeface="Microsoft JhengHei"/>
                <a:ea typeface="Microsoft JhengHei"/>
              </a:rPr>
              <a:t>~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天半月访视和生后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7</a:t>
            </a:r>
            <a:r>
              <a:rPr b="1" lang="en-US" sz="2800" spc="-1" strike="noStrike">
                <a:solidFill>
                  <a:srgbClr val="046ca6"/>
                </a:solidFill>
                <a:latin typeface="Microsoft JhengHei"/>
                <a:ea typeface="Microsoft JhengHei"/>
              </a:rPr>
              <a:t>~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8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天月访视，并建立新生儿健康管理卡和预防接种卡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1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访视内容：初访、周访、半月访、满月访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新生儿健康指导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三、婴幼儿期健康管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一）婴儿期：指小儿自出生到满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周岁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32640" indent="-3326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护理评估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326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小儿生长发育迅速，衡量生长发育的重要指标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326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对营养的需要量相对较大，但是小儿消化功能未发育成熟，易发生消化功能紊乱，营养缺乏性疾病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326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神经系统发育较快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326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免疫功能尚不成熟，易患各种感染和传染性疾病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7720" y="23436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护理问题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有感染的危险：与机体免疫力低下有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营养不良：与营养物质缺乏有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腹泻：与喂养不当、卫生习惯不良有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178920" y="1196640"/>
            <a:ext cx="861084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护理措施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394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指导科学合理的喂养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394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定期体格检查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394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计划免疫：“五苗防七病”；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394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增加体格锻炼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394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协调能力训练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394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防治疾病与意外事故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394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7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满足婴儿的皮肤饥渴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二）幼儿期：幼儿期指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周岁到满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周岁的小儿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护理评估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体格发育速度较前稍减慢，智能发育较前突出，语言、思维和社会适应能力增强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意外伤害增多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0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颗乳牙渐出齐，免疫功能仍然较差，传染病发病率仍较高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护理问题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有受伤的危险：与安全意识缺乏或意外事故增多有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营养不良：与幼儿生长发育需求营养物较多，而消化功能成熟度不够或卫生习惯不良有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知识缺乏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学习目标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1371240"/>
            <a:ext cx="8610480" cy="50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4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黑体"/>
              </a:rPr>
              <a:t>识记：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4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．社区儿童各年龄阶段的主要特点及保健指导。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4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．社区儿童预防接种概念、计划免疫的程序及禁忌证。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4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．社区儿童及青少年生长发育的检测与评价方法。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4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．社区妇女保健概念、各阶段社区妇女健康指导内容。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4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5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．</a:t>
            </a: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2000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年联合国世界卫生组织和中华医学会老年学会年龄段的划分标准。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4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6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．人口老龄化的概念。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304920" y="1371600"/>
            <a:ext cx="861048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护理措施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</a:rPr>
              <a:t>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早期教育：①促进语言和智能发育；②增加认知能力，形成良好人格；③养成良好的行为习惯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保护牙齿，注意刷牙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养成良好的卫生习惯，饭前便后洗手等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定期体格检查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防止意外创伤和中毒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合理喂养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7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体格锻炼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8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加强预防接种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四、学龄前期儿童健康管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20240" y="137124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学龄前期指</a:t>
            </a: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周岁到</a:t>
            </a: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6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7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）岁的小儿。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黑体"/>
              </a:rPr>
              <a:t>护理评估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小儿体格发育稳步增长。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智能发育更趋完善：开始有初步的抽象思维，记忆力好，好奇心、模仿能力强，是性格形成的关键期。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免疫能力未成熟，易患急性肾炎、风湿热等免疫性疾病。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开始更换乳牙。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7720" y="23436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护理问题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龋齿：与口腔卫生习惯不良或含糖量食物摄入过多有关有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视力下降：与用眼不卫生，长期过度看电视有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肥胖症：与活动少，饮食过量致体重增加有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免疫性疾病性增多：与免疫能力未成熟有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有受伤的危险：与安全意识差有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304920" y="1484280"/>
            <a:ext cx="8610480" cy="476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护理措施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保证充足的营养：保证热量与蛋白的摄入，优质蛋白摄入占总蛋白的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/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教育：①安全教育；②培养其良好的道德品质，团结协作，培养分辨是非的能力及克服困难的能力，养成良好的生活习惯和性格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预防免疫性疾病及意外伤害。 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做好常见疾病与健康问题的预防和家庭护理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社区托幼机构儿童保健管理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五、学龄期及青少年期的保健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学龄期及青少年期指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(7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岁）到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岁的小儿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护理评估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小儿体格发育仍稳步增长，除生殖系统外其他器官的发育到本期末已接近成人水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智能发育更加成熟，是接受科学文化教育的重要时期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乳牙逐个被同位恒牙替换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免疫功能逐渐发育成熟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综合分析问题能力提高，有完成任务的责任感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7720" y="23436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护理问题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视力下降：与用眼不卫生、看书、写字姿势不正等有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龋齿：与口腔卫生习惯不良或含糖量食物摄入过多有关有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贫血：与膳食结构不合理或少年期女性月经知识缺乏有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有受伤的危险：与安全意识不强有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304920" y="1267920"/>
            <a:ext cx="8610480" cy="515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护理措施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营养与饮食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生理卫生指导：①保护视力；②防止龋齿；③保证充足的睡眠，劳逸结合；④注意个人卫生，防止肠道寄生虫病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加强系统的体格锻炼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心理卫生指导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社区青少年常见的预防和保健：自慰、网络成瘾、青少年妊娠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黑体"/>
              </a:rPr>
              <a:t>第二节  社区妇女的健康管理</a:t>
            </a:r>
            <a:endParaRPr b="1" lang="en-US" sz="40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3928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一、概  述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78544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社区妇女保健的概念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社区妇女保健是以基层为重点，以社区妇女为服务对象，以预防为主，以保健为中心，以维护和促进妇女身心健康为目的，开展以保障生殖健康为核心的保健工作。妇女保健工作是一项社会性强，涉及面广，且有一定艰巨性的群众性卫生保健工作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928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一、概  述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23640" y="1267920"/>
            <a:ext cx="85690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30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社区妇女保健的意义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社区妇女保健以预防为主，以提高和维护妇女身心健康为目标，其目的在于通过积极的普查、预防保健及监护和治疗措施，开展以维护妇女生殖健康为核心的贯穿围婚期、孕期、产褥期、围绝经期的各项保健工作，从而减少女性生理、心理、社会、行为等方面的健康问题，有利于家庭的稳固、民族素质的提高和社会的稳定。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学习目标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黑体"/>
              </a:rPr>
              <a:t>理解：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5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．社区儿童及青少年保健工作内容。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5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．社区儿童及青少年常见病的预防及保健指导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5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．社区妇女各阶段的生理、心理变化及常见健康问题。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5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．中老年人的生理、心理及社会的特点。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3928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一、概  述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341000"/>
            <a:ext cx="80643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社区妇女保健内容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定期开展妇女常见病、多发病的普查普治，减少发病率，提高治愈率，控制性传播疾病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控制孕产妇和新生儿常见病的发生，最大限度地降低孕产妇和新生儿死亡率，提高出生质量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为社区妇女提供和指导安全有效的避孕措施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对社区妇女进行健康教育，提高妇女自我保健意识和自我保健能力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.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做好妇女各期保健，提高妇女的整体健康水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.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根据妇女生理特点，做好妇女劳动保护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二、围婚期妇女的健康管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68000" y="1413000"/>
            <a:ext cx="828036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80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围婚期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围婚期指从婚前择偶到结婚后怀孕前为止的阶段。围婚期妇女的健康管理内容包括配偶的选择、性健康教育、婚前检查、最佳生育年龄及受孕时机的选择、计划生育及家庭成员的适应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611280" y="1268280"/>
            <a:ext cx="792144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围婚期妇女的生理、心理特征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生理特征：全身各系统均已发育成熟并具有正常的功能。卵巢功能旺盛，周期性排卵，促使子宫、乳腺等进行周期性变化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心理特征：心理逐步完善和适应的重要时期。因经历生理、心理、家庭、学习、恋爱婚姻、职业选择、前途追求等各种过程，容易出现不适应、不协调、不理解等心理问题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247" name="Text Box 5"/>
          <p:cNvSpPr/>
          <p:nvPr/>
        </p:nvSpPr>
        <p:spPr>
          <a:xfrm>
            <a:off x="2411280" y="404640"/>
            <a:ext cx="374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8" name="Rectangle 6"/>
          <p:cNvSpPr/>
          <p:nvPr/>
        </p:nvSpPr>
        <p:spPr>
          <a:xfrm>
            <a:off x="1908000" y="260280"/>
            <a:ext cx="66596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二、围婚期妇女的健康管理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324000" y="1341360"/>
            <a:ext cx="861048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围婚期妇女健康指导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配偶的选择：遗传因素、健康因素、适宜年龄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性健康教育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婚前检查：询问健康史、体格检查、婚前卫生指导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最佳生育年龄及受孕时机的选择：最佳生育年龄、选择合适的受孕时机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计划生育：避孕、避孕失败补救、绝育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家庭成员的适应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250" name="Text Box 3"/>
          <p:cNvSpPr/>
          <p:nvPr/>
        </p:nvSpPr>
        <p:spPr>
          <a:xfrm>
            <a:off x="2411280" y="404640"/>
            <a:ext cx="374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1" name="Rectangle 4"/>
          <p:cNvSpPr/>
          <p:nvPr/>
        </p:nvSpPr>
        <p:spPr>
          <a:xfrm>
            <a:off x="1908000" y="208080"/>
            <a:ext cx="62992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二、围婚期妇女的健康管理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11280" y="26028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三、孕期妇女的健康管理 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04560" y="1700280"/>
            <a:ext cx="86598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孕期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孕期是指胎儿在母体内发育成长的过程，从卵子受精开始至胎儿自母体娩出为止共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0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周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11280" y="26028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三、孕期妇女的健康管理 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6598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80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孕期妇女的生理、心理变化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生理变化：生殖系统、乳房、循环及血液系统、泌尿系统、呼吸系统、消化系统等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心理变化：惊讶、矛盾、接受、情绪波动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3928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三、孕期妇女的健康管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250920" y="1413000"/>
            <a:ext cx="8610480" cy="46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200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孕期妇女的健康管理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建立卫生保健手册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产前检查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产前检查的时间、首次产前检查内容、复诊产前检查内容、产前健康教育。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11280" y="40464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三、孕期妇女的健康管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799308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孕期妇女的健康指导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日常生活指导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乳房护理指导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用药指导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营养与体重管理指导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孕妇自我监测指导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心理指导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7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妊娠末期的分娩准备指导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8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孕期常见症状的管理指导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四、产褥期妇女的健康管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250560" y="1557000"/>
            <a:ext cx="86598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产褥期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产褥期是指从胎盘娩出至产妇全身各器官除乳腺外，恢复或接近正常未孕状态的一段时期，一般为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周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四、产褥期妇女的健康管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8353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30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产褥期妇女的生理、心理变化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产褥期妇女的生理变化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生殖系统、乳房、血液及循环系统、内分泌系统、消化系统、泌尿系统。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产褥期妇女的心理变化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热情、希望、高兴、满足感、幸福感，同时有失眠、失望、抑郁等负性情绪表现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产后抑郁症是分娩后常见的一种心理障碍。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学习目标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应用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能够运用所学知识，在社区进行儿童及青少年保健指导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能对社区妇女进行科学的健康教育和健康指导如计划生育指导，能正确进行产后家庭访视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中年人的保健指导和疾病预防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正确发挥社区护理在中老年健康管理中的作用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四、产褥期妇女的健康管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4000" y="1484280"/>
            <a:ext cx="7777080" cy="433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产后家庭访视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访视的时间及频率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访视前准备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访视内容：产妇、新生儿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四、产褥期妇女的健康管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539640" y="1413000"/>
            <a:ext cx="806472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产褥期妇女的健康指导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日常生活指导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活动与运动指导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乳房护理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母乳喂养指导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心理指导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家庭的适应与协调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7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产后健康检查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8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产褥期常见健康问题的管理指导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五、围绝经期妇女的健康管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30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围绝经期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围绝经期是指围绕妇女绝经前后的一段时间，包括从接近绝经年龄出现与绝经有关的内分泌、生物学和临床特征开始，到绝经后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年内的时期，分为绝经前期、绝经期和绝经后期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世界卫生组织将卵巢功能衰退直至绝经后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年内的时期称为围绝经期。绝大部分女性的围绝经期发生在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5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5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岁之间，平均持续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年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五、围绝经期妇女的健康管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11280" y="1341000"/>
            <a:ext cx="8137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40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围绝经期妇女的生理、心理社会变化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围绝经期妇女的生理变化：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月经失调、泌尿生殖道退行性改变 、骨质疏松 、心血管系统等。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围绝经期妇女的心理社会变化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常有烦躁、易激动、易怒或精神抑郁、情绪低落、记忆力减退等心理特点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五、围绝经期妇女的健康管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515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围绝经期妇女的健康管理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健康教育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心理指导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合理饮食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改变生活习惯与运动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性生活指导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定期进行健康检查与疾病普查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7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围绝经期妇女常见健康问题的健康指导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/>
          </p:nvPr>
        </p:nvSpPr>
        <p:spPr>
          <a:xfrm>
            <a:off x="395280" y="2906280"/>
            <a:ext cx="8353440" cy="150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黑体"/>
              </a:rPr>
              <a:t>第三节 社区中、老年人的健康管理</a:t>
            </a:r>
            <a:endParaRPr b="1" lang="en-US" sz="40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10840" y="259920"/>
            <a:ext cx="838188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内容简介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grpSp>
        <p:nvGrpSpPr>
          <p:cNvPr id="276" name="Group 4"/>
          <p:cNvGrpSpPr/>
          <p:nvPr/>
        </p:nvGrpSpPr>
        <p:grpSpPr>
          <a:xfrm>
            <a:off x="1187280" y="1413000"/>
            <a:ext cx="6913440" cy="1007640"/>
            <a:chOff x="1187280" y="1413000"/>
            <a:chExt cx="6913440" cy="1007640"/>
          </a:xfrm>
        </p:grpSpPr>
        <p:sp>
          <p:nvSpPr>
            <p:cNvPr id="277" name="AutoShape 4"/>
            <p:cNvSpPr/>
            <p:nvPr/>
          </p:nvSpPr>
          <p:spPr>
            <a:xfrm>
              <a:off x="1744560" y="1587960"/>
              <a:ext cx="6356160" cy="67176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99669b"/>
              </a:solidFill>
              <a:miter/>
            </a:ln>
            <a:effectLst>
              <a:outerShdw dist="99192" dir="2381944" blurRad="0" rotWithShape="0">
                <a:srgbClr val="ddddd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8" name="AutoShape 5"/>
            <p:cNvSpPr/>
            <p:nvPr/>
          </p:nvSpPr>
          <p:spPr>
            <a:xfrm>
              <a:off x="1187280" y="1413000"/>
              <a:ext cx="1003320" cy="1007640"/>
            </a:xfrm>
            <a:prstGeom prst="diamond">
              <a:avLst/>
            </a:prstGeom>
            <a:solidFill>
              <a:srgbClr val="99669b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9" name="Text Box 6"/>
            <p:cNvSpPr/>
            <p:nvPr/>
          </p:nvSpPr>
          <p:spPr>
            <a:xfrm>
              <a:off x="2362320" y="1669320"/>
              <a:ext cx="5018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黑体"/>
                  <a:ea typeface="黑体"/>
                </a:rPr>
                <a:t>人口老龄化现状及发展趋势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0" name="Text Box 7"/>
            <p:cNvSpPr/>
            <p:nvPr/>
          </p:nvSpPr>
          <p:spPr>
            <a:xfrm>
              <a:off x="1495800" y="1557360"/>
              <a:ext cx="350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46ca6"/>
                  </a:solidFill>
                  <a:latin typeface="黑体"/>
                  <a:ea typeface="Arial"/>
                </a:rPr>
                <a:t>1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81" name="Group 9"/>
          <p:cNvGrpSpPr/>
          <p:nvPr/>
        </p:nvGrpSpPr>
        <p:grpSpPr>
          <a:xfrm>
            <a:off x="1204920" y="2276640"/>
            <a:ext cx="6861960" cy="1080720"/>
            <a:chOff x="1204920" y="2276640"/>
            <a:chExt cx="6861960" cy="1080720"/>
          </a:xfrm>
        </p:grpSpPr>
        <p:sp>
          <p:nvSpPr>
            <p:cNvPr id="282" name="AutoShape 9"/>
            <p:cNvSpPr/>
            <p:nvPr/>
          </p:nvSpPr>
          <p:spPr>
            <a:xfrm>
              <a:off x="1757880" y="2464200"/>
              <a:ext cx="6309000" cy="72036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8ac8de"/>
              </a:solidFill>
              <a:miter/>
            </a:ln>
            <a:effectLst>
              <a:outerShdw dist="99192" dir="2381944" blurRad="0" rotWithShape="0">
                <a:srgbClr val="ddddd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3" name="AutoShape 10"/>
            <p:cNvSpPr/>
            <p:nvPr/>
          </p:nvSpPr>
          <p:spPr>
            <a:xfrm>
              <a:off x="1204920" y="2276640"/>
              <a:ext cx="996120" cy="1080720"/>
            </a:xfrm>
            <a:prstGeom prst="diamond">
              <a:avLst/>
            </a:prstGeom>
            <a:solidFill>
              <a:srgbClr val="8ac8de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4" name="Text Box 11"/>
            <p:cNvSpPr/>
            <p:nvPr/>
          </p:nvSpPr>
          <p:spPr>
            <a:xfrm>
              <a:off x="2542320" y="2551680"/>
              <a:ext cx="4980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黑体"/>
                  <a:ea typeface="黑体"/>
                </a:rPr>
                <a:t>社区中年人的生理、心理特点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5" name="Text Box 12"/>
            <p:cNvSpPr/>
            <p:nvPr/>
          </p:nvSpPr>
          <p:spPr>
            <a:xfrm>
              <a:off x="1489680" y="243144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46ca6"/>
                  </a:solidFill>
                  <a:latin typeface="黑体"/>
                  <a:ea typeface="Arial"/>
                </a:rPr>
                <a:t>2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86" name="Group 14"/>
          <p:cNvGrpSpPr/>
          <p:nvPr/>
        </p:nvGrpSpPr>
        <p:grpSpPr>
          <a:xfrm>
            <a:off x="1282680" y="3211560"/>
            <a:ext cx="6816240" cy="1080720"/>
            <a:chOff x="1282680" y="3211560"/>
            <a:chExt cx="6816240" cy="1080720"/>
          </a:xfrm>
        </p:grpSpPr>
        <p:sp>
          <p:nvSpPr>
            <p:cNvPr id="287" name="AutoShape 19"/>
            <p:cNvSpPr/>
            <p:nvPr/>
          </p:nvSpPr>
          <p:spPr>
            <a:xfrm>
              <a:off x="1832040" y="3399120"/>
              <a:ext cx="6266880" cy="72036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969696"/>
              </a:solidFill>
              <a:miter/>
            </a:ln>
            <a:effectLst>
              <a:outerShdw dist="99192" dir="2381944" blurRad="0" rotWithShape="0">
                <a:srgbClr val="ddddd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8" name="AutoShape 20"/>
            <p:cNvSpPr/>
            <p:nvPr/>
          </p:nvSpPr>
          <p:spPr>
            <a:xfrm>
              <a:off x="1282680" y="3211560"/>
              <a:ext cx="989280" cy="1080720"/>
            </a:xfrm>
            <a:prstGeom prst="diamond">
              <a:avLst/>
            </a:prstGeom>
            <a:solidFill>
              <a:srgbClr val="969696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9" name="Text Box 21"/>
            <p:cNvSpPr/>
            <p:nvPr/>
          </p:nvSpPr>
          <p:spPr>
            <a:xfrm>
              <a:off x="2503080" y="3486600"/>
              <a:ext cx="494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黑体"/>
                  <a:ea typeface="黑体"/>
                </a:rPr>
                <a:t>社区老年人的生理、心理特点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0" name="Text Box 22"/>
            <p:cNvSpPr/>
            <p:nvPr/>
          </p:nvSpPr>
          <p:spPr>
            <a:xfrm>
              <a:off x="1562760" y="33663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46ca6"/>
                  </a:solidFill>
                  <a:latin typeface="黑体"/>
                  <a:ea typeface="Arial"/>
                </a:rPr>
                <a:t>3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91" name="Group 19"/>
          <p:cNvGrpSpPr/>
          <p:nvPr/>
        </p:nvGrpSpPr>
        <p:grpSpPr>
          <a:xfrm>
            <a:off x="1187280" y="4148280"/>
            <a:ext cx="6984720" cy="1080720"/>
            <a:chOff x="1187280" y="4148280"/>
            <a:chExt cx="6984720" cy="1080720"/>
          </a:xfrm>
        </p:grpSpPr>
        <p:sp>
          <p:nvSpPr>
            <p:cNvPr id="292" name="AutoShape 4"/>
            <p:cNvSpPr/>
            <p:nvPr/>
          </p:nvSpPr>
          <p:spPr>
            <a:xfrm>
              <a:off x="1750320" y="4335840"/>
              <a:ext cx="6421680" cy="72036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99669b"/>
              </a:solidFill>
              <a:miter/>
            </a:ln>
            <a:effectLst>
              <a:outerShdw dist="99192" dir="2381944" blurRad="0" rotWithShape="0">
                <a:srgbClr val="ddddd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3" name="AutoShape 5"/>
            <p:cNvSpPr/>
            <p:nvPr/>
          </p:nvSpPr>
          <p:spPr>
            <a:xfrm>
              <a:off x="1187280" y="4148280"/>
              <a:ext cx="1013760" cy="1080720"/>
            </a:xfrm>
            <a:prstGeom prst="diamond">
              <a:avLst/>
            </a:prstGeom>
            <a:solidFill>
              <a:srgbClr val="99669b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4" name="Text Box 6"/>
            <p:cNvSpPr/>
            <p:nvPr/>
          </p:nvSpPr>
          <p:spPr>
            <a:xfrm>
              <a:off x="2555640" y="4435920"/>
              <a:ext cx="5069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黑体"/>
                  <a:ea typeface="黑体"/>
                </a:rPr>
                <a:t>社区中年人健康管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5" name="Text Box 7"/>
            <p:cNvSpPr/>
            <p:nvPr/>
          </p:nvSpPr>
          <p:spPr>
            <a:xfrm>
              <a:off x="1477080" y="430308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46ca6"/>
                  </a:solidFill>
                  <a:latin typeface="黑体"/>
                  <a:ea typeface="Arial"/>
                </a:rPr>
                <a:t>4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96" name="Group 24"/>
          <p:cNvGrpSpPr/>
          <p:nvPr/>
        </p:nvGrpSpPr>
        <p:grpSpPr>
          <a:xfrm>
            <a:off x="1187280" y="5084640"/>
            <a:ext cx="6984720" cy="1080720"/>
            <a:chOff x="1187280" y="5084640"/>
            <a:chExt cx="6984720" cy="1080720"/>
          </a:xfrm>
        </p:grpSpPr>
        <p:sp>
          <p:nvSpPr>
            <p:cNvPr id="297" name="AutoShape 9"/>
            <p:cNvSpPr/>
            <p:nvPr/>
          </p:nvSpPr>
          <p:spPr>
            <a:xfrm>
              <a:off x="1750320" y="5272200"/>
              <a:ext cx="6421680" cy="72036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8ac8de"/>
              </a:solidFill>
              <a:miter/>
            </a:ln>
            <a:effectLst>
              <a:outerShdw dist="99192" dir="2381944" blurRad="0" rotWithShape="0">
                <a:srgbClr val="ddddd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8" name="AutoShape 10"/>
            <p:cNvSpPr/>
            <p:nvPr/>
          </p:nvSpPr>
          <p:spPr>
            <a:xfrm>
              <a:off x="1187280" y="5084640"/>
              <a:ext cx="1013760" cy="1080720"/>
            </a:xfrm>
            <a:prstGeom prst="diamond">
              <a:avLst/>
            </a:prstGeom>
            <a:solidFill>
              <a:srgbClr val="8ac8de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9" name="Text Box 11"/>
            <p:cNvSpPr/>
            <p:nvPr/>
          </p:nvSpPr>
          <p:spPr>
            <a:xfrm>
              <a:off x="2597760" y="5359680"/>
              <a:ext cx="5069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黑体"/>
                  <a:ea typeface="黑体"/>
                </a:rPr>
                <a:t>社区老年人健康管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0" name="Text Box 12"/>
            <p:cNvSpPr/>
            <p:nvPr/>
          </p:nvSpPr>
          <p:spPr>
            <a:xfrm>
              <a:off x="1477080" y="523944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46ca6"/>
                  </a:solidFill>
                  <a:latin typeface="黑体"/>
                  <a:ea typeface="Arial"/>
                </a:rPr>
                <a:t>5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Text Box 2"/>
          <p:cNvSpPr/>
          <p:nvPr/>
        </p:nvSpPr>
        <p:spPr>
          <a:xfrm>
            <a:off x="-193680" y="2057400"/>
            <a:ext cx="1033560" cy="3429000"/>
          </a:xfrm>
          <a:prstGeom prst="rect">
            <a:avLst/>
          </a:prstGeom>
          <a:solidFill>
            <a:srgbClr val="ffffff"/>
          </a:solidFill>
          <a:ln w="255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我国人口老龄化特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2" name="Text Box 3"/>
          <p:cNvSpPr/>
          <p:nvPr/>
        </p:nvSpPr>
        <p:spPr>
          <a:xfrm>
            <a:off x="1447920" y="2133720"/>
            <a:ext cx="51051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3" name="Text Box 4"/>
          <p:cNvSpPr/>
          <p:nvPr/>
        </p:nvSpPr>
        <p:spPr>
          <a:xfrm>
            <a:off x="1143000" y="2057400"/>
            <a:ext cx="670572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我国人口老化速度快，老年人口数量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4" name="Text Box 5"/>
          <p:cNvSpPr/>
          <p:nvPr/>
        </p:nvSpPr>
        <p:spPr>
          <a:xfrm>
            <a:off x="1143000" y="2819520"/>
            <a:ext cx="670572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老年人口增长速度加快</a:t>
            </a: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5" name="Text Box 6"/>
          <p:cNvSpPr/>
          <p:nvPr/>
        </p:nvSpPr>
        <p:spPr>
          <a:xfrm>
            <a:off x="1143000" y="3581280"/>
            <a:ext cx="670572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老龄化地区间差异较大</a:t>
            </a: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6" name="Text Box 7"/>
          <p:cNvSpPr/>
          <p:nvPr/>
        </p:nvSpPr>
        <p:spPr>
          <a:xfrm>
            <a:off x="1143000" y="4343400"/>
            <a:ext cx="670572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老龄城乡倒置显著</a:t>
            </a: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7" name="Text Box 8"/>
          <p:cNvSpPr/>
          <p:nvPr/>
        </p:nvSpPr>
        <p:spPr>
          <a:xfrm>
            <a:off x="1143000" y="5105520"/>
            <a:ext cx="670572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老龄化超前于现代化</a:t>
            </a: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08" name="Picture 11" descr="laonian1_296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010280" y="5029200"/>
            <a:ext cx="2133720" cy="1828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Text Box 2"/>
          <p:cNvSpPr/>
          <p:nvPr/>
        </p:nvSpPr>
        <p:spPr>
          <a:xfrm>
            <a:off x="309600" y="1981080"/>
            <a:ext cx="1033560" cy="3505320"/>
          </a:xfrm>
          <a:prstGeom prst="rect">
            <a:avLst/>
          </a:prstGeom>
          <a:solidFill>
            <a:srgbClr val="ffffff"/>
          </a:solidFill>
          <a:ln w="255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我国人口老化带来的问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0" name="Text Box 3"/>
          <p:cNvSpPr/>
          <p:nvPr/>
        </p:nvSpPr>
        <p:spPr>
          <a:xfrm>
            <a:off x="1828800" y="1981080"/>
            <a:ext cx="35305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社会负担加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1" name="Rectangle 5"/>
          <p:cNvSpPr/>
          <p:nvPr/>
        </p:nvSpPr>
        <p:spPr>
          <a:xfrm>
            <a:off x="1828800" y="3530520"/>
            <a:ext cx="6488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劳动生产率降低、产业结构老龄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2" name="Text Box 6"/>
          <p:cNvSpPr/>
          <p:nvPr/>
        </p:nvSpPr>
        <p:spPr>
          <a:xfrm>
            <a:off x="1828800" y="2776680"/>
            <a:ext cx="58197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使社会保障费用供需差增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3" name="Text Box 7"/>
          <p:cNvSpPr/>
          <p:nvPr/>
        </p:nvSpPr>
        <p:spPr>
          <a:xfrm>
            <a:off x="1828800" y="4282920"/>
            <a:ext cx="37209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家庭养老功能减弱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4" name="Rectangle 9"/>
          <p:cNvSpPr/>
          <p:nvPr/>
        </p:nvSpPr>
        <p:spPr>
          <a:xfrm>
            <a:off x="1828800" y="5037120"/>
            <a:ext cx="5103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医疗卫生保健需求增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/>
          </p:nvPr>
        </p:nvSpPr>
        <p:spPr>
          <a:xfrm>
            <a:off x="456840" y="1989000"/>
            <a:ext cx="843588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关于中年人年龄的划分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99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年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WHO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规定：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5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9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岁为中年人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我国根据民族、地域、社会状况、人的身体状况及人口年龄构成现状划分   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规定：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5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5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岁 中年期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 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6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9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岁 中年后期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(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相当于老年前期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)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316" name="Rectangle 3"/>
          <p:cNvSpPr/>
          <p:nvPr/>
        </p:nvSpPr>
        <p:spPr>
          <a:xfrm>
            <a:off x="611280" y="1281240"/>
            <a:ext cx="461016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中年人的概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7" name="Rectangle 3"/>
          <p:cNvSpPr/>
          <p:nvPr/>
        </p:nvSpPr>
        <p:spPr>
          <a:xfrm>
            <a:off x="1692360" y="326880"/>
            <a:ext cx="720072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二、中年人的生理与心理特点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324000" y="2906280"/>
            <a:ext cx="8640720" cy="150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黑体"/>
              </a:rPr>
              <a:t>第一节 社区儿童与青少年的健康管理</a:t>
            </a:r>
            <a:endParaRPr b="1" lang="en-US" sz="40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/>
          </p:nvPr>
        </p:nvSpPr>
        <p:spPr>
          <a:xfrm>
            <a:off x="468360" y="1447920"/>
            <a:ext cx="8207280" cy="4789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黑体"/>
              </a:rPr>
              <a:t>（一）中年人的生理特点</a:t>
            </a:r>
            <a:endParaRPr b="1" lang="en-US" sz="30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基础代谢水平下降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大脑神经系统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消化系统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心血管系统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5.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呼吸系统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6.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肌肉骨骼系统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7.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泌尿生殖系统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二）中年人的心理特点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心理日益成熟的阶段：深思熟虑，富于哲理；情绪稳定，干练豁达；意志坚韧，自制力强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产生不同程度的心理问题：认知功能的下降；人际关系矛盾等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402920" y="304920"/>
            <a:ext cx="7588440" cy="67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三、 老年人的生理、心理特点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21" name="Text Box 3"/>
          <p:cNvSpPr/>
          <p:nvPr/>
        </p:nvSpPr>
        <p:spPr>
          <a:xfrm>
            <a:off x="-193680" y="2057400"/>
            <a:ext cx="1033560" cy="3124080"/>
          </a:xfrm>
          <a:prstGeom prst="rect">
            <a:avLst/>
          </a:prstGeom>
          <a:solidFill>
            <a:srgbClr val="ffffff"/>
          </a:solidFill>
          <a:ln w="255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楷体_GB2312"/>
              </a:rPr>
              <a:t>多少岁是老年人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2" name="Rectangle 4"/>
          <p:cNvSpPr/>
          <p:nvPr/>
        </p:nvSpPr>
        <p:spPr>
          <a:xfrm>
            <a:off x="2743200" y="1523880"/>
            <a:ext cx="4191120" cy="198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WHO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采用的标准：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     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发达国家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65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岁以上；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     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发展中国家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60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岁以上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3" name="Text Box 5"/>
          <p:cNvSpPr/>
          <p:nvPr/>
        </p:nvSpPr>
        <p:spPr>
          <a:xfrm>
            <a:off x="1219320" y="3733920"/>
            <a:ext cx="3047760" cy="2775240"/>
          </a:xfrm>
          <a:prstGeom prst="rect">
            <a:avLst/>
          </a:prstGeom>
          <a:solidFill>
            <a:srgbClr val="ffffff"/>
          </a:solidFill>
          <a:ln w="255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WHO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45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59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岁：中年人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黑体"/>
              </a:rPr>
              <a:t>60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黑体"/>
              </a:rPr>
              <a:t>74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岁：年轻老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75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89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岁：中老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90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岁以上：长寿老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4" name="Text Box 6"/>
          <p:cNvSpPr/>
          <p:nvPr/>
        </p:nvSpPr>
        <p:spPr>
          <a:xfrm>
            <a:off x="4419720" y="3733920"/>
            <a:ext cx="4572000" cy="2775240"/>
          </a:xfrm>
          <a:prstGeom prst="rect">
            <a:avLst/>
          </a:prstGeom>
          <a:solidFill>
            <a:srgbClr val="ffffff"/>
          </a:solidFill>
          <a:ln w="255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我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黑体"/>
              </a:rPr>
              <a:t>45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黑体"/>
              </a:rPr>
              <a:t>59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岁：老年前期（中老年人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黑体"/>
              </a:rPr>
              <a:t>60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黑体"/>
              </a:rPr>
              <a:t>89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岁：老年期（老年人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90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黑体"/>
              </a:rPr>
              <a:t>99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岁：长寿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100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岁以上：寿星（长寿老人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AutoShape 3"/>
          <p:cNvSpPr/>
          <p:nvPr/>
        </p:nvSpPr>
        <p:spPr>
          <a:xfrm>
            <a:off x="0" y="-12600"/>
            <a:ext cx="9153360" cy="687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26" name="Rectangle 4" descr=""/>
          <p:cNvPicPr/>
          <p:nvPr/>
        </p:nvPicPr>
        <p:blipFill>
          <a:blip r:embed="rId1"/>
          <a:stretch/>
        </p:blipFill>
        <p:spPr>
          <a:xfrm>
            <a:off x="1054080" y="2146320"/>
            <a:ext cx="6181920" cy="3816360"/>
          </a:xfrm>
          <a:prstGeom prst="rect">
            <a:avLst/>
          </a:prstGeom>
          <a:ln w="0">
            <a:noFill/>
          </a:ln>
        </p:spPr>
      </p:pic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26560" y="126360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一）社区老年人的生理特点</a:t>
            </a:r>
            <a:endParaRPr b="1" lang="en-US" sz="28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transition>
    <p:zoom dir="out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Rectangle 2" descr=""/>
          <p:cNvPicPr/>
          <p:nvPr/>
        </p:nvPicPr>
        <p:blipFill>
          <a:blip r:embed="rId1"/>
          <a:stretch/>
        </p:blipFill>
        <p:spPr>
          <a:xfrm>
            <a:off x="920880" y="2097000"/>
            <a:ext cx="7265880" cy="4443480"/>
          </a:xfrm>
          <a:prstGeom prst="rect">
            <a:avLst/>
          </a:prstGeom>
          <a:ln w="0">
            <a:noFill/>
          </a:ln>
        </p:spPr>
      </p:pic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26560" y="126360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二）社区老年人的心理特点</a:t>
            </a:r>
            <a:endParaRPr b="1" lang="en-US" sz="28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transition>
    <p:zoom dir="out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2"/>
          <p:cNvSpPr/>
          <p:nvPr/>
        </p:nvSpPr>
        <p:spPr>
          <a:xfrm>
            <a:off x="900000" y="1989000"/>
            <a:ext cx="7239240" cy="44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SzPct val="8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症状和体征不典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SzPct val="8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病程长、恢复慢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SzPct val="8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多种疾病共存（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70%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的老年人同时患有两种以上的疾病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SzPct val="8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病情变化快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SzPct val="8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易发生并发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26560" y="1263240"/>
            <a:ext cx="7162920" cy="6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三）社区老年人的患病特点</a:t>
            </a:r>
            <a:endParaRPr b="1" lang="en-US" sz="28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transition>
    <p:zoom dir="out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3"/>
          <p:cNvSpPr/>
          <p:nvPr/>
        </p:nvSpPr>
        <p:spPr>
          <a:xfrm>
            <a:off x="1044720" y="260280"/>
            <a:ext cx="7920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四、社区中年人健康管理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3" name="Rectangle 2"/>
          <p:cNvSpPr/>
          <p:nvPr/>
        </p:nvSpPr>
        <p:spPr>
          <a:xfrm>
            <a:off x="1692360" y="1341360"/>
            <a:ext cx="5445000" cy="49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心理保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膳食原则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运动健身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睡眠调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疾病的自我控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/>
          </p:nvPr>
        </p:nvSpPr>
        <p:spPr>
          <a:xfrm>
            <a:off x="394920" y="1268280"/>
            <a:ext cx="820908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一）心理保健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量力而为，劳逸结合 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加强自我心理素质修养，保持豁达乐观的心态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正确处理各种人际关系，建立和谐的家庭关系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夫妻之间建立互谅、互让、互信、互助关系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学会倾诉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/>
          </p:nvPr>
        </p:nvSpPr>
        <p:spPr>
          <a:xfrm>
            <a:off x="250560" y="1341360"/>
            <a:ext cx="867564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二）膳食原则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控制总热量，避免肥胖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保持适量蛋白质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适当限制糖类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低脂肪、低胆固醇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多吃富含钙质食物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少食盐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7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节食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/>
          </p:nvPr>
        </p:nvSpPr>
        <p:spPr>
          <a:xfrm>
            <a:off x="39528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三）运动健身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选择适宜的运动项目：有氧耐力性运动、力量性运动、柔韧性、平衡性、协调性运动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健身运动：有氧运动为主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运动强度：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Karvonen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计算法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运动时间：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5</a:t>
            </a:r>
            <a:r>
              <a:rPr b="1" lang="en-US" sz="2800" spc="-1" strike="noStrike">
                <a:solidFill>
                  <a:srgbClr val="046ca6"/>
                </a:solidFill>
                <a:latin typeface="Microsoft JhengHei"/>
                <a:ea typeface="Microsoft JhengHei"/>
              </a:rPr>
              <a:t>~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0min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一、概  述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一）社区儿童、青少年健康保健的意义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二）儿童与青少年保健工作机构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三）社区护士在儿童保健中的作用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四）儿童、青少年生长发育的检测与评价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/>
          </p:nvPr>
        </p:nvSpPr>
        <p:spPr>
          <a:xfrm>
            <a:off x="468360" y="1268280"/>
            <a:ext cx="822960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四）睡眠调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坚持规律的作息时间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睡前勿猛吃猛喝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睡前远离咖啡和尼古丁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选择锻炼时间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长睡眠要放在晚间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保持安静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7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睡前洗澡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/>
          </p:nvPr>
        </p:nvSpPr>
        <p:spPr>
          <a:xfrm>
            <a:off x="250560" y="1196640"/>
            <a:ext cx="87138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五）疾病自我控制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警惕身体出现的各种异常变化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体重无明显原因突然下降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短暂昏厥，一侧肢体麻木无力、不灵活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咳嗽、痰中带血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心慌、心前区憋闷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食欲下降，大便次数或形状改变，便血、柏油样便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无痛性血尿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7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颈部、乳腺、腋下、大腿根部出现或摸到肿块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2411280" y="189000"/>
            <a:ext cx="65534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五、社区老年人健康管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806436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良好心理状态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健康生活习惯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合理膳食规律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适量体育运动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重视跌倒预防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学会自我检测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随身携带医保卡、急救卡和急救盒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生病及时就诊，遵医嘱治疗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突发急重症，及时拨打“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20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”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4"/>
          <p:cNvSpPr/>
          <p:nvPr/>
        </p:nvSpPr>
        <p:spPr>
          <a:xfrm>
            <a:off x="990720" y="5300640"/>
            <a:ext cx="3200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2" name="Rectangle 6"/>
          <p:cNvSpPr/>
          <p:nvPr/>
        </p:nvSpPr>
        <p:spPr>
          <a:xfrm>
            <a:off x="4267080" y="3956040"/>
            <a:ext cx="24386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3" name="Rectangle 7"/>
          <p:cNvSpPr/>
          <p:nvPr/>
        </p:nvSpPr>
        <p:spPr>
          <a:xfrm>
            <a:off x="4267080" y="4946760"/>
            <a:ext cx="21337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4" name="矩形 1"/>
          <p:cNvSpPr/>
          <p:nvPr/>
        </p:nvSpPr>
        <p:spPr>
          <a:xfrm>
            <a:off x="1363680" y="3281400"/>
            <a:ext cx="2286000" cy="90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324000" y="151776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一）良好心理状态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保持良好心态和稳定情绪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建立良好的人际关系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营造和谐的家庭关系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积极融入社区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p:transition>
    <p:zoom dir="out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24000" y="151776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二）健康生活习惯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经常开窗通风，保持空气流通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睡眠起居要有规律，每天睡眠不少于</a:t>
            </a: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6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小时，最好午休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坚持每天晒太阳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慎用镇静、催眠、镇痛剂等成瘾性药物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保持大便通畅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控制体重，避免超重、肥胖或体重过低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不抽烟，少饮酒，不酗酒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324000" y="1413000"/>
            <a:ext cx="8610480" cy="50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三）合理膳食规律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食品保持新鲜卫生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膳食以谷类为主，粗细搭配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多吃蔬菜水果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适量摄入肉、禽、鱼、虾及蛋类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经常食用奶类、豆制品和少量坚果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控制油、盐摄入，保持饮食清淡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合理补充微量营养素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正确选择保健食品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324000" y="1413000"/>
            <a:ext cx="8610480" cy="50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四）适量体育运动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选择适宜的运动项目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掌握合适的运动次数、时间和强度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</a:rPr>
              <a:t>（五）重视跌倒预防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活动时应熟悉身边的环境和障碍物，且动作宜慢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切勿边走边看手机或书报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行动不便者，可选择辅助工具帮助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活动时，穿戴应合身、合脚、鞋底应防滑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视力不好者，应佩戴眼镜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324000" y="1413000"/>
            <a:ext cx="8610480" cy="50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六）学会自我检测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学会测量脉搏、体温和血压。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高血压患者每天至少自测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次血压，早中晚各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次。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糖尿病患者适时自测血糖。血糖稳定时，每周至少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次。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</a:rPr>
              <a:t>（七）随身携带医保卡、急救卡和急救盒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急救卡应写明姓名、住址、联系人、联系电话、定点医院、病历号、血型、主要疾病诊断和用药、急救盒放置的位置。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急救盒应备有阿司匹林、硝酸甘油、速效救心丸等。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糖尿病患者外出可备点糖果，以备发生低血糖时食用。 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304920" y="1267920"/>
            <a:ext cx="86104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八）生病及时就诊，遵医嘱治疗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早诊断早治疗，才能获得良好疗效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生病后要到正规医院及时诊治，遵医嘱治疗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不要贪图便宜，听信传言，找巫医看病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不要自作主张自行用药或擅自停药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不要瞒着医生采用多个治疗方案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忌用“偏方”、“验方”、“秘方”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九）突发急重症，及时拨打“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</a:rPr>
              <a:t>120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”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突发急重症，需要紧急医疗救助时，立即拨打“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20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”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，并积极采取适当的方法进行现场救助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3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思考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名词解释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社区妇女保健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围绝经期综合征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简答题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新生儿特殊的生理特点有哪些？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“五苗防七病”指的是什么？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如何进行新生儿家访？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体格生长发育监测主要包括哪些内容？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计划免疫的禁忌证、不良反应有哪些？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社区青少年常见病有哪些？如何预防？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7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社区护士如何教产褥期产妇母乳喂养及乳房护理？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3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一）社区儿童、青少年健康保健的意义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促进儿童与青少年的生长发育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增强儿童与青少年体质，促进早期教育 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减少儿童与青少年患病率及死亡率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保障儿童及青少年的合法权利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一、概  述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思考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304920" y="1371240"/>
            <a:ext cx="8610480" cy="50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陈老伯为退休干部，今年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78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岁，生活尚能自理。与老伴结婚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0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年来，一直居住在一起，两人感情十分深厚，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个子女长大后都已单独居住。老夫妻俩老伴在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个月前由于做胃癌手术失败，在短短十几天的时间内没有留下一句话就撒手人寰，子女便请了一个保姆来照顾他，但老人觉得保姆对自己态度不好，所以没做多久就辞退了保姆。子女们恐他一人在家无人照顾，也怕他在家中睹物思人，心情过度伤悲，便将他送到福利院居住。但老人住进福利院后，一改以前开朗的性格，经常一人独坐在一处，很少与其他老人交谈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请问：我们该如何对他进行健康指导？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3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50920" y="134136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二）儿童与青少年保健工作机构</a:t>
            </a:r>
            <a:endParaRPr b="1" lang="en-US" sz="2800" spc="-1" strike="noStrike">
              <a:solidFill>
                <a:srgbClr val="ffffff"/>
              </a:solidFill>
              <a:latin typeface="黑体"/>
            </a:endParaRPr>
          </a:p>
        </p:txBody>
      </p:sp>
      <p:grpSp>
        <p:nvGrpSpPr>
          <p:cNvPr id="187" name="组合 26"/>
          <p:cNvGrpSpPr/>
          <p:nvPr/>
        </p:nvGrpSpPr>
        <p:grpSpPr>
          <a:xfrm>
            <a:off x="250920" y="2119320"/>
            <a:ext cx="8785080" cy="4189320"/>
            <a:chOff x="250920" y="2119320"/>
            <a:chExt cx="8785080" cy="4189320"/>
          </a:xfrm>
        </p:grpSpPr>
        <p:sp>
          <p:nvSpPr>
            <p:cNvPr id="188" name="Rectangle 8"/>
            <p:cNvSpPr/>
            <p:nvPr/>
          </p:nvSpPr>
          <p:spPr>
            <a:xfrm>
              <a:off x="250920" y="2119320"/>
              <a:ext cx="3744720" cy="388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4800" rIns="648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46ca6"/>
                  </a:solidFill>
                  <a:latin typeface="黑体"/>
                  <a:ea typeface="黑体"/>
                </a:rPr>
                <a:t>国家卫生计生委妇幼健康服务司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9" name="Oval 14"/>
            <p:cNvSpPr/>
            <p:nvPr/>
          </p:nvSpPr>
          <p:spPr>
            <a:xfrm>
              <a:off x="4427640" y="5767560"/>
              <a:ext cx="4608360" cy="5410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46ca6"/>
                  </a:solidFill>
                  <a:latin typeface="黑体"/>
                  <a:ea typeface="黑体"/>
                </a:rPr>
                <a:t>街道、乡卫生服务中心（站）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0" name="Line 16"/>
            <p:cNvSpPr/>
            <p:nvPr/>
          </p:nvSpPr>
          <p:spPr>
            <a:xfrm>
              <a:off x="2251800" y="2513880"/>
              <a:ext cx="0" cy="361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1" name="Line 17"/>
            <p:cNvSpPr/>
            <p:nvPr/>
          </p:nvSpPr>
          <p:spPr>
            <a:xfrm>
              <a:off x="2265480" y="3422520"/>
              <a:ext cx="0" cy="361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2" name="Line 18"/>
            <p:cNvSpPr/>
            <p:nvPr/>
          </p:nvSpPr>
          <p:spPr>
            <a:xfrm>
              <a:off x="2265480" y="4391280"/>
              <a:ext cx="0" cy="361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93" name="组合 32"/>
            <p:cNvGrpSpPr/>
            <p:nvPr/>
          </p:nvGrpSpPr>
          <p:grpSpPr>
            <a:xfrm>
              <a:off x="250920" y="2872440"/>
              <a:ext cx="8425080" cy="586440"/>
              <a:chOff x="250920" y="2872440"/>
              <a:chExt cx="8425080" cy="586440"/>
            </a:xfrm>
          </p:grpSpPr>
          <p:sp>
            <p:nvSpPr>
              <p:cNvPr id="194" name="Oval 6"/>
              <p:cNvSpPr/>
              <p:nvPr/>
            </p:nvSpPr>
            <p:spPr>
              <a:xfrm>
                <a:off x="4773960" y="2872440"/>
                <a:ext cx="3902040" cy="5421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800" rIns="64800" tIns="32400" bIns="32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46ca6"/>
                    </a:solidFill>
                    <a:latin typeface="黑体"/>
                    <a:ea typeface="黑体"/>
                  </a:rPr>
                  <a:t>妇幼保健院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5" name="Rectangle 9"/>
              <p:cNvSpPr/>
              <p:nvPr/>
            </p:nvSpPr>
            <p:spPr>
              <a:xfrm>
                <a:off x="250920" y="2872440"/>
                <a:ext cx="3745080" cy="586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800" rIns="64800" tIns="32400" bIns="32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46ca6"/>
                    </a:solidFill>
                    <a:latin typeface="黑体"/>
                    <a:ea typeface="黑体"/>
                  </a:rPr>
                  <a:t>省、自治区、直辖市卫生计生委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46ca6"/>
                    </a:solidFill>
                    <a:latin typeface="黑体"/>
                    <a:ea typeface="黑体"/>
                  </a:rPr>
                  <a:t>妇幼健康服务处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6" name="Line 19"/>
              <p:cNvSpPr/>
              <p:nvPr/>
            </p:nvSpPr>
            <p:spPr>
              <a:xfrm>
                <a:off x="4019760" y="3158640"/>
                <a:ext cx="776880" cy="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97" name="组合 33"/>
            <p:cNvGrpSpPr/>
            <p:nvPr/>
          </p:nvGrpSpPr>
          <p:grpSpPr>
            <a:xfrm>
              <a:off x="250920" y="3793320"/>
              <a:ext cx="8397720" cy="586440"/>
              <a:chOff x="250920" y="3793320"/>
              <a:chExt cx="8397720" cy="586440"/>
            </a:xfrm>
          </p:grpSpPr>
          <p:sp>
            <p:nvSpPr>
              <p:cNvPr id="198" name="Oval 7"/>
              <p:cNvSpPr/>
              <p:nvPr/>
            </p:nvSpPr>
            <p:spPr>
              <a:xfrm>
                <a:off x="4746600" y="3793320"/>
                <a:ext cx="3902040" cy="5421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800" rIns="64800" tIns="32400" bIns="32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46ca6"/>
                    </a:solidFill>
                    <a:latin typeface="黑体"/>
                    <a:ea typeface="黑体"/>
                  </a:rPr>
                  <a:t>市级妇幼卫生（所）院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9" name="Rectangle 10"/>
              <p:cNvSpPr/>
              <p:nvPr/>
            </p:nvSpPr>
            <p:spPr>
              <a:xfrm>
                <a:off x="250920" y="3793320"/>
                <a:ext cx="3744720" cy="586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800" rIns="64800" tIns="32400" bIns="32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46ca6"/>
                    </a:solidFill>
                    <a:latin typeface="黑体"/>
                    <a:ea typeface="黑体"/>
                  </a:rPr>
                  <a:t>市级卫生计生委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46ca6"/>
                    </a:solidFill>
                    <a:latin typeface="黑体"/>
                    <a:ea typeface="黑体"/>
                  </a:rPr>
                  <a:t>妇幼健康服务处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00" name="Line 20"/>
              <p:cNvSpPr/>
              <p:nvPr/>
            </p:nvSpPr>
            <p:spPr>
              <a:xfrm>
                <a:off x="4006080" y="4079880"/>
                <a:ext cx="776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201" name="组合 34"/>
            <p:cNvGrpSpPr/>
            <p:nvPr/>
          </p:nvGrpSpPr>
          <p:grpSpPr>
            <a:xfrm>
              <a:off x="250920" y="4762080"/>
              <a:ext cx="8425080" cy="648720"/>
              <a:chOff x="250920" y="4762080"/>
              <a:chExt cx="8425080" cy="648720"/>
            </a:xfrm>
          </p:grpSpPr>
          <p:sp>
            <p:nvSpPr>
              <p:cNvPr id="202" name="Rectangle 11"/>
              <p:cNvSpPr/>
              <p:nvPr/>
            </p:nvSpPr>
            <p:spPr>
              <a:xfrm>
                <a:off x="250920" y="4762080"/>
                <a:ext cx="3745080" cy="648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800" rIns="64800" tIns="32400" bIns="32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46ca6"/>
                    </a:solidFill>
                    <a:latin typeface="黑体"/>
                    <a:ea typeface="黑体"/>
                  </a:rPr>
                  <a:t>区级、县级卫生计生局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46ca6"/>
                    </a:solidFill>
                    <a:latin typeface="黑体"/>
                    <a:ea typeface="黑体"/>
                  </a:rPr>
                  <a:t>妇幼健康服务科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03" name="Oval 13"/>
              <p:cNvSpPr/>
              <p:nvPr/>
            </p:nvSpPr>
            <p:spPr>
              <a:xfrm>
                <a:off x="4773960" y="4822200"/>
                <a:ext cx="3902040" cy="5410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800" rIns="64800" tIns="32400" bIns="32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46ca6"/>
                    </a:solidFill>
                    <a:latin typeface="黑体"/>
                    <a:ea typeface="黑体"/>
                  </a:rPr>
                  <a:t>区级、县级卫生（所）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04" name="Line 21"/>
              <p:cNvSpPr/>
              <p:nvPr/>
            </p:nvSpPr>
            <p:spPr>
              <a:xfrm>
                <a:off x="4033440" y="5072040"/>
                <a:ext cx="776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05" name="Line 22"/>
            <p:cNvSpPr/>
            <p:nvPr/>
          </p:nvSpPr>
          <p:spPr>
            <a:xfrm>
              <a:off x="6717960" y="3422520"/>
              <a:ext cx="0" cy="36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6" name="Line 23"/>
            <p:cNvSpPr/>
            <p:nvPr/>
          </p:nvSpPr>
          <p:spPr>
            <a:xfrm>
              <a:off x="6731640" y="4343400"/>
              <a:ext cx="0" cy="36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7" name="Line 24"/>
            <p:cNvSpPr/>
            <p:nvPr/>
          </p:nvSpPr>
          <p:spPr>
            <a:xfrm>
              <a:off x="6731640" y="5384160"/>
              <a:ext cx="0" cy="36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08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7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一、概  述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三）社区护士在儿童保健中的作用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促进社区儿童正常的生长发育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评估社区儿童生长发育状况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儿童的健康教育及预防保健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做好社区儿童健康状况的统计与记录工作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一、概  述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刘云涛</cp:lastModifiedBy>
  <cp:lastPrinted>2015-05-05T08:20:39Z</cp:lastPrinted>
  <dcterms:modified xsi:type="dcterms:W3CDTF">2015-08-28T07:23:18Z</dcterms:modified>
  <cp:revision>138</cp:revision>
  <dc:subject/>
  <dc:title>内科护理学</dc:title>
</cp:coreProperties>
</file>